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wmf" ContentType="image/x-wmf"/>
  <Override PartName="/ppt/media/image8.gif" ContentType="image/gi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155-CF04-4C1F-A4C8-628FA3E8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0FF-C7C4-4B41-8CF9-75817CE1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B35-3EF1-410A-880B-BB30BF15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72D-4121-4243-B1CE-E802D6A5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A981-B15E-4D78-9223-D3C5CD81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C09-AD0C-4352-BEF1-180A0F44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A64-CDBD-49D8-92E3-2CA64F3F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0EA-F856-4528-9A2A-729A2959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100-AEC5-45EB-AA31-32C0D86D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D2D-7107-4E72-8F8B-5F244AB6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3E1-BDEA-4FE9-B1BA-A7F776D5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CB5-875D-4E87-A9EB-B6F15166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F9CD-F61D-4D27-BE41-9ED6462C3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3809880"/>
            <a:ext cx="77724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old  by Molly John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57360" y="3100320"/>
            <a:ext cx="4229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enry's Freedom Box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33520"/>
            <a:ext cx="6400800" cy="1752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Arial"/>
              </a:rPr>
              <a:t>Retold by Molly John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86600" y="1828800"/>
            <a:ext cx="1862280" cy="1924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1687680" cy="1616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3 0.0615 C 0.13472 0.04786 0.16545 0.04324 0.18715 0.03399 C 0.20712 0.02543 0.22413 0.01041 0.24271 -0.00185 C 0.24583 -0.01457 0.25399 -0.01549 0.2618 -0.02312 C 0.26423 -0.02543 0.26562 -0.02936 0.26805 -0.03144 C 0.28507 -0.04647 0.27639 -0.03306 0.29028 -0.04855 C 0.30208 -0.06173 0.30208 -0.06474 0.31736 -0.06959 C 0.35173 -0.06728 0.33923 -0.06867 0.36024 -0.06104 C 0.37205 -0.05063 0.38281 -0.04462 0.3967 -0.04208 C 0.40052 -0.04046 0.40399 -0.03746 0.40781 -0.03584 C 0.41007 -0.03491 0.42934 -0.03167 0.43003 -0.03144 C 0.43993 -0.02266 0.4533 -0.02289 0.46493 -0.01896 C 0.48923 -0.01965 0.51371 -0.01988 0.53802 -0.02104 C 0.54722 -0.0215 0.55486 -0.02613 0.56337 -0.02936 C 0.56805 -0.03121 0.5776 -0.03376 0.5776 -0.03376 C 0.58611 -0.0393 0.59184 -0.04416 0.60139 -0.04624 C 0.60677 -0.04878 0.61024 -0.05179 0.61423 -0.05688 C 0.61632 -0.06821 0.6184 -0.0793 0.62048 -0.09063 C 0.62118 -0.0941 0.63142 -0.09618 0.63316 -0.09711 C 0.64913 -0.10497 0.66719 -0.10774 0.68246 -0.11815 C 0.69028 -0.12347 0.69844 -0.12763 0.70625 -0.13295 C 0.71389 -0.13803 0.72014 -0.14636 0.72847 -0.14983 C 0.73923 -0.15954 0.74982 -0.16855 0.7618 -0.17526 C 0.76753 -0.18312 0.77448 -0.18751 0.78246 -0.19006 C 0.78854 -0.19838 0.78993 -0.1993 0.79826 -0.19653 C 0.7993 -0.19445 0.80017 -0.19214 0.80139 -0.19006 C 0.80225 -0.18844 0.80382 -0.18751 0.80469 -0.18589 C 0.8092 -0.17688 0.80833 -0.16509 0.8125 -0.1563 C 0.81423 -0.15237 0.81701 -0.14959 0.81892 -0.14566 C 0.82239 -0.1267 0.82066 -0.13433 0.82361 -0.12254 C 0.82291 -0.10035 0.82743 -0.0689 0.81094 -0.0548 C 0.80746 -0.04763 0.80521 -0.04763 0.79982 -0.04416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enry did no know when he was born or how old h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en he was young his master died and he was sold to somebody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enry then worked with tobacco lea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18296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3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eet a girl named N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soon married her and had three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nry was working his wife and children were s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soon figured it out and he wouldn't hum or sing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2073240" cy="2419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114300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228600"/>
            <a:ext cx="3049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594 0.00624 C 0.08368 0.0222 0.08802 0.02983 0.09219 0.04439 C 0.09792 0.06405 0.10365 0.09133 0.11615 0.10566 C 0.12292 0.11353 0.12639 0.11283 0.13507 0.1163 C 0.16493 0.12832 0.18716 0.12763 0.22084 0.12902 C 0.24115 0.12092 0.22552 0.13156 0.23837 0.1015 C 0.24167 0.09364 0.24723 0.08763 0.25105 0.08023 C 0.26007 0.06266 0.26389 0.03514 0.26684 0.0148 C 0.26632 0.00786 0.26667 0.00046 0.26528 -0.00624 C 0.26198 -0.0215 0.24427 -0.02798 0.23664 -0.03815 C 0.23368 -0.04971 0.24011 -0.04555 0.24775 -0.05064 C 0.26789 -0.06428 0.28872 -0.06775 0.31129 -0.06983 C 0.32205 -0.0733 0.33386 -0.07746 0.34462 -0.08023 C 0.35295 -0.08231 0.36997 -0.08463 0.36997 -0.08463 C 0.39566 -0.09434 0.42309 -0.09341 0.44948 -0.09503 C 0.46268 -0.09295 0.47066 -0.08717 0.48282 -0.08023 C 0.49323 -0.06798 0.50539 -0.05526 0.51771 -0.04647 C 0.52622 -0.04046 0.53299 -0.04023 0.53993 -0.03168 C 0.53559 -0.02613 0.52882 -0.01272 0.52882 -0.01272 C 0.53785 -0.00879 0.52969 -0.01364 0.53837 -0.00208 C 0.54618 0.00832 0.55521 0.0178 0.56216 0.02959 C 0.56858 0.04046 0.57223 0.05133 0.58108 0.05919 C 0.58542 0.07075 0.59271 0.07584 0.59861 0.08462 C 0.60348 0.09202 0.6073 0.09965 0.61129 0.10774 C 0.61181 0.11052 0.61181 0.11376 0.61285 0.1163 C 0.61736 0.12809 0.61615 0.11191 0.61615 0.12694 E">
                                      <p:cBhvr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3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new in Pennsylvania had no sl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decided to find a way to get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4495680"/>
            <a:ext cx="2743200" cy="1886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50000">
              <a:srgbClr val="333399"/>
            </a:gs>
            <a:gs pos="100000">
              <a:srgbClr val="cc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a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got a box to travel 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friend was there to help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needed an excuse to get out of work so he got some vitriol and poured it on hi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burned it to the bone. Finally he was rea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1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Henry,” they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3276720" cy="3790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18:03Z</dcterms:created>
  <dc:creator>test</dc:creator>
  <dc:description/>
  <dc:language>en-US</dc:language>
  <cp:lastModifiedBy>test</cp:lastModifiedBy>
  <dcterms:modified xsi:type="dcterms:W3CDTF">2011-03-23T18:44:33Z</dcterms:modified>
  <cp:revision>11</cp:revision>
  <dc:subject/>
  <dc:title>Henry’s Freedom Box</dc:title>
</cp:coreProperties>
</file>